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0EF61-EAD0-4784-8F70-033AE2AF32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7EC19-0FAF-4672-A858-C73F7DFAC8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2889D-F1BC-441D-848E-42EEA4CB3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164A5-8A84-43D0-984B-8E5B18B86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B35A2-B485-401E-96F7-CB504C07B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4623E-54F1-4165-8F70-9B8B62F8B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4980E-2610-4E0B-B326-720C55AD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500E8-2A3B-4225-AB32-1028E3503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A535-6F53-42BB-80BD-4A324CDDF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04817-9189-4ECB-9943-C3C071896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9FE94-F49B-4C9B-97F5-AA926A4B1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7C90-DB23-4D4E-8E53-004CB5557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42E1-CB85-4B9E-A04B-38A6D78A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22C77-9671-49D6-BF7B-E19CE9DE6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85DF8-AE86-49BC-8850-6FCAB76D0C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2187720" y="431496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Calibri"/>
              </a:rPr>
              <a:t>School Name</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b050"/>
                </a:solidFill>
                <a:latin typeface="Calibri"/>
              </a:rPr>
              <a:t>FAMILY LEARNING</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Calibri"/>
              </a:rPr>
              <a:t>Date</a:t>
            </a:r>
            <a:endParaRPr b="0" lang="en-US" sz="2800" spc="-1" strike="noStrike">
              <a:solidFill>
                <a:srgbClr val="000000"/>
              </a:solidFill>
              <a:latin typeface="Calibri"/>
            </a:endParaRPr>
          </a:p>
        </p:txBody>
      </p:sp>
      <p:pic>
        <p:nvPicPr>
          <p:cNvPr id="49" name="Picture 5" descr="LSTlogo-green.jpg"/>
          <p:cNvPicPr/>
          <p:nvPr/>
        </p:nvPicPr>
        <p:blipFill>
          <a:blip r:embed="rId1"/>
          <a:stretch/>
        </p:blipFill>
        <p:spPr>
          <a:xfrm>
            <a:off x="2035080" y="896760"/>
            <a:ext cx="4724640" cy="3194280"/>
          </a:xfrm>
          <a:prstGeom prst="rect">
            <a:avLst/>
          </a:prstGeom>
          <a:ln w="0">
            <a:noFill/>
          </a:ln>
        </p:spPr>
      </p:pic>
      <p:grpSp>
        <p:nvGrpSpPr>
          <p:cNvPr id="50" name="Group 3"/>
          <p:cNvGrpSpPr/>
          <p:nvPr/>
        </p:nvGrpSpPr>
        <p:grpSpPr>
          <a:xfrm>
            <a:off x="560520" y="5700600"/>
            <a:ext cx="8049960" cy="882720"/>
            <a:chOff x="560520" y="5700600"/>
            <a:chExt cx="8049960" cy="882720"/>
          </a:xfrm>
        </p:grpSpPr>
        <p:pic>
          <p:nvPicPr>
            <p:cNvPr id="51" name="Picture 8" descr=""/>
            <p:cNvPicPr/>
            <p:nvPr/>
          </p:nvPicPr>
          <p:blipFill>
            <a:blip r:embed="rId2"/>
            <a:stretch/>
          </p:blipFill>
          <p:spPr>
            <a:xfrm>
              <a:off x="7489440" y="5700600"/>
              <a:ext cx="1121040" cy="858240"/>
            </a:xfrm>
            <a:prstGeom prst="rect">
              <a:avLst/>
            </a:prstGeom>
            <a:ln w="0">
              <a:noFill/>
            </a:ln>
          </p:spPr>
        </p:pic>
        <p:sp>
          <p:nvSpPr>
            <p:cNvPr id="52" name="Rectangle 2"/>
            <p:cNvSpPr/>
            <p:nvPr/>
          </p:nvSpPr>
          <p:spPr>
            <a:xfrm>
              <a:off x="2542680" y="5919480"/>
              <a:ext cx="4946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project created by Hampton Hill Junior School and  funded by the Primary Science Teaching Trust</a:t>
              </a:r>
              <a:endParaRPr b="0" lang="en-US" sz="1800" spc="-1" strike="noStrike">
                <a:solidFill>
                  <a:srgbClr val="000000"/>
                </a:solidFill>
                <a:latin typeface="Calibri"/>
              </a:endParaRPr>
            </a:p>
          </p:txBody>
        </p:sp>
        <p:pic>
          <p:nvPicPr>
            <p:cNvPr id="53" name="Picture 6" descr="Screen Shot 2012-11-14 at 07.27.08.png"/>
            <p:cNvPicPr/>
            <p:nvPr/>
          </p:nvPicPr>
          <p:blipFill>
            <a:blip r:embed="rId3"/>
            <a:stretch/>
          </p:blipFill>
          <p:spPr>
            <a:xfrm>
              <a:off x="560520" y="6021720"/>
              <a:ext cx="1754280" cy="5616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66360" y="1717560"/>
            <a:ext cx="8242200" cy="4525920"/>
          </a:xfrm>
          <a:prstGeom prst="rect">
            <a:avLst/>
          </a:prstGeom>
          <a:noFill/>
          <a:ln w="0">
            <a:noFill/>
          </a:ln>
        </p:spPr>
        <p:txBody>
          <a:bodyPr anchor="t">
            <a:normAutofit fontScale="97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the event of the fire alarm going off when you are INDOORS, the teachers will take care of the children and ensure they leave the building safely and are registered once we are outside in the playground.  Please would you make your way out to the playground through the nearest fire exits.</a:t>
            </a:r>
            <a:endParaRPr b="0" lang="en-US" sz="26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f the fire alarm goes off when you are outside in the garden, please stay where you are.</a:t>
            </a:r>
            <a:endParaRPr b="0" lang="en-US" sz="26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Toilets – please use the toilets just outside the hall next to the ICT suite. </a:t>
            </a:r>
            <a:endParaRPr b="0" lang="en-US" sz="26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Outdoor footwear – please change your shoes – thank you!</a:t>
            </a:r>
            <a:endParaRPr b="0" lang="en-US" sz="2600" spc="-1" strike="noStrike">
              <a:solidFill>
                <a:srgbClr val="000000"/>
              </a:solidFill>
              <a:latin typeface="Calibri"/>
            </a:endParaRPr>
          </a:p>
        </p:txBody>
      </p:sp>
      <p:pic>
        <p:nvPicPr>
          <p:cNvPr id="55" name="Picture 4" descr="LSTlogo-green.jpg"/>
          <p:cNvPicPr/>
          <p:nvPr/>
        </p:nvPicPr>
        <p:blipFill>
          <a:blip r:embed="rId1"/>
          <a:stretch/>
        </p:blipFill>
        <p:spPr>
          <a:xfrm>
            <a:off x="666720" y="506520"/>
            <a:ext cx="1763640" cy="121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LSTlogo-green.jpg"/>
          <p:cNvPicPr/>
          <p:nvPr/>
        </p:nvPicPr>
        <p:blipFill>
          <a:blip r:embed="rId1"/>
          <a:stretch/>
        </p:blipFill>
        <p:spPr>
          <a:xfrm>
            <a:off x="819000" y="496800"/>
            <a:ext cx="2397240" cy="1625760"/>
          </a:xfrm>
          <a:prstGeom prst="rect">
            <a:avLst/>
          </a:prstGeom>
          <a:ln w="0">
            <a:noFill/>
          </a:ln>
        </p:spPr>
      </p:pic>
      <p:sp>
        <p:nvSpPr>
          <p:cNvPr id="57" name=""/>
          <p:cNvSpPr txBox="1"/>
          <p:nvPr/>
        </p:nvSpPr>
        <p:spPr>
          <a:xfrm>
            <a:off x="431640" y="2403360"/>
            <a:ext cx="91440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89c56"/>
                </a:solidFill>
                <a:latin typeface="Calibri"/>
              </a:rPr>
              <a:t>Today you are going to be Nature Detectives! </a:t>
            </a:r>
            <a:endParaRPr b="0" lang="en-US" sz="3200" spc="-1" strike="noStrike">
              <a:solidFill>
                <a:srgbClr val="000000"/>
              </a:solidFill>
              <a:latin typeface="Calibri"/>
            </a:endParaRPr>
          </a:p>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There are three activities for you to do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What’s in the garden? (floating and sinking             if wet!)</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How’s life in the pond?</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Home sweet home …. For woodlic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Content Placeholder 1"/>
          <p:cNvSpPr/>
          <p:nvPr/>
        </p:nvSpPr>
        <p:spPr>
          <a:xfrm>
            <a:off x="976320" y="1519200"/>
            <a:ext cx="8599320" cy="452592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School name     </a:t>
            </a:r>
            <a:endParaRPr b="0" lang="en-US" sz="36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14:52:28Z</dcterms:created>
  <dc:creator>Alison Eley</dc:creator>
  <dc:description/>
  <dc:language>en-US</dc:language>
  <cp:lastModifiedBy>-</cp:lastModifiedBy>
  <dcterms:modified xsi:type="dcterms:W3CDTF">2014-07-04T15:04:40Z</dcterms:modified>
  <cp:revision>14</cp:revision>
  <dc:subject/>
  <dc:title>PowerPoint Presentation</dc:title>
</cp:coreProperties>
</file>