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ED5-002E-4591-8864-FFE1C1BF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965-B52E-4A96-9C3E-33977F61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CF6-64E2-4147-AA22-D869BFB3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5BE-05E5-4A47-91FC-F4913098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748-CFF9-4CC6-9B03-68FF8B23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42E-BEAB-4B0B-BC5C-4A8A6E39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BFE-35E1-464A-B4B1-E48B0CE4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A5B-E551-4C68-85D8-1384911F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A47-61BB-4DFB-8153-93392BD6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BD2-4185-4C16-BEBC-A0DE28B5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D6B-B911-4288-A1C2-97AD750C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9F5-A45D-47A5-91A4-5F37E3A2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EF994-4905-4355-8D90-C48862946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ribble-plain.jpg"/>
          <p:cNvPicPr/>
          <p:nvPr/>
        </p:nvPicPr>
        <p:blipFill>
          <a:blip r:embed="rId1"/>
          <a:srcRect l="0" t="0" r="0" b="20750"/>
          <a:stretch/>
        </p:blipFill>
        <p:spPr>
          <a:xfrm>
            <a:off x="1728720" y="326880"/>
            <a:ext cx="5730840" cy="5435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207360" cy="6977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1906560" y="5640480"/>
            <a:ext cx="5349960" cy="1217520"/>
          </a:xfrm>
          <a:prstGeom prst="rect">
            <a:avLst/>
          </a:prstGeom>
          <a:solidFill>
            <a:srgbClr val="484848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gribble-plain.jpg"/>
          <p:cNvPicPr/>
          <p:nvPr/>
        </p:nvPicPr>
        <p:blipFill>
          <a:blip r:embed="rId3"/>
          <a:srcRect l="20820" t="81737" r="13818" b="8778"/>
          <a:stretch/>
        </p:blipFill>
        <p:spPr>
          <a:xfrm rot="21427800">
            <a:off x="2300040" y="5754240"/>
            <a:ext cx="46116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63360" y="-34920"/>
            <a:ext cx="9207360" cy="6977160"/>
            <a:chOff x="-63360" y="-34920"/>
            <a:chExt cx="9207360" cy="6977160"/>
          </a:xfrm>
        </p:grpSpPr>
        <p:pic>
          <p:nvPicPr>
            <p:cNvPr id="46" name="Picture 1" descr="yolo-plain.jpg"/>
            <p:cNvPicPr/>
            <p:nvPr/>
          </p:nvPicPr>
          <p:blipFill>
            <a:blip r:embed="rId1"/>
            <a:srcRect l="0" t="0" r="0" b="17752"/>
            <a:stretch/>
          </p:blipFill>
          <p:spPr>
            <a:xfrm>
              <a:off x="1701720" y="411120"/>
              <a:ext cx="5731560" cy="56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3" descr=""/>
            <p:cNvPicPr/>
            <p:nvPr/>
          </p:nvPicPr>
          <p:blipFill>
            <a:blip r:embed="rId2"/>
            <a:stretch/>
          </p:blipFill>
          <p:spPr>
            <a:xfrm>
              <a:off x="-63360" y="-34920"/>
              <a:ext cx="9207360" cy="697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6"/>
            <p:cNvSpPr/>
            <p:nvPr/>
          </p:nvSpPr>
          <p:spPr>
            <a:xfrm>
              <a:off x="1906200" y="5640840"/>
              <a:ext cx="5349960" cy="1217160"/>
            </a:xfrm>
            <a:prstGeom prst="rect">
              <a:avLst/>
            </a:prstGeom>
            <a:solidFill>
              <a:srgbClr val="484848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" name="Picture 7" descr="yolo-plain.jpg"/>
            <p:cNvPicPr/>
            <p:nvPr/>
          </p:nvPicPr>
          <p:blipFill>
            <a:blip r:embed="rId3"/>
            <a:srcRect l="26927" t="82673" r="35644" b="8485"/>
            <a:stretch/>
          </p:blipFill>
          <p:spPr>
            <a:xfrm>
              <a:off x="2656080" y="5609880"/>
              <a:ext cx="3866040" cy="109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14:52:28Z</dcterms:created>
  <dc:creator>Alison Eley</dc:creator>
  <dc:description/>
  <dc:language>en-US</dc:language>
  <cp:lastModifiedBy>-</cp:lastModifiedBy>
  <dcterms:modified xsi:type="dcterms:W3CDTF">2014-07-04T15:04:03Z</dcterms:modified>
  <cp:revision>2</cp:revision>
  <dc:subject/>
  <dc:title>PowerPoint Presentation</dc:title>
</cp:coreProperties>
</file>