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C4A-FCE5-4C94-9A08-F330D195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EF6-4BCF-405C-A1A6-8DB92879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D46-5737-4B8F-863C-D9A5F867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C09-BD7B-470B-944D-92FC88F1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A9A-5667-4869-A1C4-43930628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FD7-BCDD-49CD-A21E-CDD68D2A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06B-5DCE-4CA1-B9B1-95C25927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7F4-2A07-4355-8B63-3BA12763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FFC-CCCF-4A07-9B4B-E214CDA9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DC7-F5D6-4CEC-A117-A2807C61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89D-37BC-461D-B3CD-8A9B9A66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CD6-62E4-4A90-A2D6-247F17F1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874D-6E67-463B-8CDB-9E26332B0A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STlogo-blue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LSTlogo-dkgreen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LSTlogo-green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LSTlogo-orange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LSTlogo-purple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LSTlogo-red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LSTlogo-yellow.jpg"/>
          <p:cNvPicPr/>
          <p:nvPr/>
        </p:nvPicPr>
        <p:blipFill>
          <a:blip r:embed="rId1"/>
          <a:stretch/>
        </p:blipFill>
        <p:spPr>
          <a:xfrm>
            <a:off x="0" y="528480"/>
            <a:ext cx="91440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10:32:55Z</dcterms:created>
  <dc:creator>-</dc:creator>
  <dc:description/>
  <dc:language>en-US</dc:language>
  <cp:lastModifiedBy>-</cp:lastModifiedBy>
  <dcterms:modified xsi:type="dcterms:W3CDTF">2014-11-03T10:35:37Z</dcterms:modified>
  <cp:revision>1</cp:revision>
  <dc:subject/>
  <dc:title>Slide 1</dc:title>
</cp:coreProperties>
</file>