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0D92D-C3BE-4651-AEBF-827081F0D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F1833-C89F-4E7D-8413-9B18EE72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D9C43-7A00-4273-8AEF-02C86DA52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5B335-DCC6-432C-B97E-EA957BCD4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481A-9C84-462B-A65F-C583358C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8D119-DB06-4801-96A1-9365C6E9E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04855-00B1-4FCF-97E0-51F2F33A0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14BE-3015-4E8C-8AFE-6C8FA3BE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C8EA-D258-47B6-99A0-9B896A30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6E00-B75C-4D3A-866E-0776FBE30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716C-5B45-4132-B72E-598CE5C37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9C6EC-5681-4CCF-AA91-51044279A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ADD61-7BF4-480B-9EC3-0194C72609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46120" y="-362160"/>
            <a:ext cx="5829120" cy="1958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Devanagari Sangam MN"/>
                <a:ea typeface="Devanagari Sangam MN"/>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14200" y="2279160"/>
            <a:ext cx="6529680" cy="382680"/>
          </a:xfrm>
          <a:prstGeom prst="rect">
            <a:avLst/>
          </a:prstGeom>
          <a:noFill/>
          <a:ln w="0">
            <a:noFill/>
          </a:ln>
        </p:spPr>
        <p:txBody>
          <a:bodyPr anchor="t">
            <a:noAutofit/>
          </a:bodyPr>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Devanagari Sangam MN"/>
                <a:ea typeface="Devanagari Sangam MN"/>
              </a:rPr>
              <a:t>Summer Term Family Event - ALL WELCOME!</a:t>
            </a:r>
            <a:endParaRPr b="0" lang="en-US" sz="2200" spc="-1" strike="noStrike">
              <a:solidFill>
                <a:srgbClr val="000000"/>
              </a:solidFill>
              <a:latin typeface="Calibri"/>
            </a:endParaRPr>
          </a:p>
        </p:txBody>
      </p:sp>
      <p:sp>
        <p:nvSpPr>
          <p:cNvPr id="43" name="TextBox 3"/>
          <p:cNvSpPr/>
          <p:nvPr/>
        </p:nvSpPr>
        <p:spPr>
          <a:xfrm>
            <a:off x="-50760" y="2662200"/>
            <a:ext cx="6908760" cy="146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Devanagari Sangam MN"/>
                <a:ea typeface="Devanagari Sangam MN"/>
              </a:rPr>
              <a:t>After a very exciting and successful start to our spring term event, we are pleased to be able to offer more  </a:t>
            </a:r>
            <a:r>
              <a:rPr b="1" lang="en-US" sz="1600" spc="-1" strike="noStrike">
                <a:solidFill>
                  <a:srgbClr val="000000"/>
                </a:solidFill>
                <a:latin typeface="Bangla MN"/>
                <a:ea typeface="Bangla MN"/>
              </a:rPr>
              <a:t>learning</a:t>
            </a:r>
            <a:r>
              <a:rPr b="0" lang="en-US" sz="1400" spc="-1" strike="noStrike">
                <a:solidFill>
                  <a:srgbClr val="000000"/>
                </a:solidFill>
                <a:latin typeface="Devanagari Sangam MN"/>
                <a:ea typeface="Devanagari Sangam MN"/>
              </a:rPr>
              <a:t> experiences in </a:t>
            </a:r>
            <a:r>
              <a:rPr b="1" lang="en-US" sz="1600" spc="-1" strike="noStrike">
                <a:solidFill>
                  <a:srgbClr val="000000"/>
                </a:solidFill>
                <a:latin typeface="Bangla MN"/>
                <a:ea typeface="Bangla MN"/>
              </a:rPr>
              <a:t>science</a:t>
            </a:r>
            <a:r>
              <a:rPr b="0" lang="en-US" sz="1800" spc="-1" strike="noStrike">
                <a:solidFill>
                  <a:srgbClr val="000000"/>
                </a:solidFill>
                <a:latin typeface="Bangla MN"/>
                <a:ea typeface="Bangla MN"/>
              </a:rPr>
              <a:t> </a:t>
            </a:r>
            <a:r>
              <a:rPr b="0" lang="en-US" sz="1400" spc="-1" strike="noStrike">
                <a:solidFill>
                  <a:srgbClr val="000000"/>
                </a:solidFill>
                <a:latin typeface="Devanagari Sangam MN"/>
                <a:ea typeface="Devanagari Sangam MN"/>
              </a:rPr>
              <a:t>in the summer term. We invite you and your child to come and discover new things </a:t>
            </a:r>
            <a:r>
              <a:rPr b="1" lang="en-US" sz="1600" spc="-1" strike="noStrike">
                <a:solidFill>
                  <a:srgbClr val="000000"/>
                </a:solidFill>
                <a:latin typeface="Bangla MN"/>
                <a:ea typeface="Bangla MN"/>
              </a:rPr>
              <a:t>together</a:t>
            </a:r>
            <a:r>
              <a:rPr b="0" lang="en-US" sz="1400" spc="-1" strike="noStrike">
                <a:solidFill>
                  <a:srgbClr val="000000"/>
                </a:solidFill>
                <a:latin typeface="Devanagari Sangam MN"/>
                <a:ea typeface="Devanagari Sangam MN"/>
              </a:rPr>
              <a:t>, in a fun and friendly environment. The summer term’s family learning event will be repeated four times to give as many people as possible a chance to take part – see form below for dates and times.  </a:t>
            </a:r>
            <a:endParaRPr b="0" lang="en-US" sz="1400" spc="-1" strike="noStrike">
              <a:solidFill>
                <a:srgbClr val="000000"/>
              </a:solidFill>
              <a:latin typeface="Calibri"/>
            </a:endParaRPr>
          </a:p>
        </p:txBody>
      </p:sp>
      <p:sp>
        <p:nvSpPr>
          <p:cNvPr id="44" name="TextBox 19"/>
          <p:cNvSpPr/>
          <p:nvPr/>
        </p:nvSpPr>
        <p:spPr>
          <a:xfrm>
            <a:off x="74520" y="5025960"/>
            <a:ext cx="672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TextBox 20"/>
          <p:cNvSpPr/>
          <p:nvPr/>
        </p:nvSpPr>
        <p:spPr>
          <a:xfrm>
            <a:off x="214200" y="3924360"/>
            <a:ext cx="6426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Bangla MN"/>
                <a:ea typeface="Bangla MN"/>
              </a:rPr>
              <a:t>If you would like to come to one of the sessions in the summer term, please complete, detach and return the form below, by Frida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clearly indicating your order of preference for the session dates and times shown.  Please cross through any sessions   you cannot attend.  We will try very hard to fit everyone in, and where possible give people their first choice.  Priority will be given to those children who did not get a place at the spring term event, provided the form is returned to school by 21</a:t>
            </a:r>
            <a:r>
              <a:rPr b="0" i="1" lang="en-US" sz="1200" spc="-1" strike="noStrike" baseline="30000">
                <a:solidFill>
                  <a:srgbClr val="000000"/>
                </a:solidFill>
                <a:latin typeface="Bangla MN"/>
                <a:ea typeface="Bangla MN"/>
              </a:rPr>
              <a:t>st</a:t>
            </a:r>
            <a:r>
              <a:rPr b="0" i="1" lang="en-US" sz="1200" spc="-1" strike="noStrike">
                <a:solidFill>
                  <a:srgbClr val="000000"/>
                </a:solidFill>
                <a:latin typeface="Bangla MN"/>
                <a:ea typeface="Bangla MN"/>
              </a:rPr>
              <a:t> March. </a:t>
            </a:r>
            <a:endParaRPr b="0" lang="en-US" sz="1200" spc="-1" strike="noStrike">
              <a:solidFill>
                <a:srgbClr val="000000"/>
              </a:solidFill>
              <a:latin typeface="Calibri"/>
            </a:endParaRPr>
          </a:p>
        </p:txBody>
      </p:sp>
      <p:sp>
        <p:nvSpPr>
          <p:cNvPr id="46" name="TextBox 21"/>
          <p:cNvSpPr/>
          <p:nvPr/>
        </p:nvSpPr>
        <p:spPr>
          <a:xfrm>
            <a:off x="214200" y="5094360"/>
            <a:ext cx="6301080" cy="19191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A separate form should be completed for each child wanting a place.  Please include the name of the adult who will accompany the chil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One adult can accompany up to two children from the same family, although please note that places can only be allocated to children who attend Hampton Hill Junior School.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regret that we cannot include younger siblings or any other children not at HHJS.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This initiative is fully funded by the Primary Science Teaching Trust; all sessions and materials are completely free of charge, and refreshments will be provided. </a:t>
            </a:r>
            <a:endParaRPr b="0" lang="en-US" sz="1200" spc="-1" strike="noStrike">
              <a:solidFill>
                <a:srgbClr val="000000"/>
              </a:solidFill>
              <a:latin typeface="Calibri"/>
            </a:endParaRPr>
          </a:p>
          <a:p>
            <a:pPr marL="171360" indent="-171360">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Devanagari Sangam MN"/>
                <a:ea typeface="Devanagari Sangam MN"/>
              </a:rPr>
              <a:t>We will let you know as soon as possible which session you have been allocated.  </a:t>
            </a:r>
            <a:endParaRPr b="0" lang="en-US" sz="1200" spc="-1" strike="noStrike">
              <a:solidFill>
                <a:srgbClr val="000000"/>
              </a:solidFill>
              <a:latin typeface="Calibri"/>
            </a:endParaRPr>
          </a:p>
        </p:txBody>
      </p:sp>
      <p:sp>
        <p:nvSpPr>
          <p:cNvPr id="47" name="Straight Connector 5"/>
          <p:cNvSpPr/>
          <p:nvPr/>
        </p:nvSpPr>
        <p:spPr>
          <a:xfrm>
            <a:off x="74520" y="6769080"/>
            <a:ext cx="6724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 name="Group 12"/>
          <p:cNvGrpSpPr/>
          <p:nvPr/>
        </p:nvGrpSpPr>
        <p:grpSpPr>
          <a:xfrm>
            <a:off x="112680" y="6831000"/>
            <a:ext cx="6631200" cy="2831760"/>
            <a:chOff x="112680" y="6831000"/>
            <a:chExt cx="6631200" cy="2831760"/>
          </a:xfrm>
        </p:grpSpPr>
        <p:sp>
          <p:nvSpPr>
            <p:cNvPr id="49" name="TextBox 18"/>
            <p:cNvSpPr/>
            <p:nvPr/>
          </p:nvSpPr>
          <p:spPr>
            <a:xfrm>
              <a:off x="112680" y="6831000"/>
              <a:ext cx="6631200" cy="28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Devanagari Sangam MN"/>
                  <a:ea typeface="Devanagari Sangam MN"/>
                </a:rPr>
                <a:t>Learning Science Together – Summer Term Family Eve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child:_____________________________________________  Class: __________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Name of adult who will accompany the child: ___________________________________</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Please number the sessions 1 to 4 to show your order of preference and cross through any sessions that you cannot atten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Bangla MN"/>
                  <a:ea typeface="Bangla MN"/>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26</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April: </a:t>
              </a:r>
              <a:r>
                <a:rPr b="0" lang="en-US" sz="1200" spc="-1" strike="noStrike">
                  <a:solidFill>
                    <a:srgbClr val="000000"/>
                  </a:solidFill>
                  <a:latin typeface="Bangla MN"/>
                  <a:ea typeface="Bangla MN"/>
                </a:rPr>
                <a:t>   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Bangla MN"/>
                  <a:ea typeface="Bangla MN"/>
                </a:rPr>
                <a:t>       </a:t>
              </a:r>
              <a:r>
                <a:rPr b="1" lang="en-US" sz="1200" spc="-1" strike="noStrike">
                  <a:solidFill>
                    <a:srgbClr val="000000"/>
                  </a:solidFill>
                  <a:latin typeface="Bangla MN"/>
                  <a:ea typeface="Bangla MN"/>
                </a:rPr>
                <a:t>Saturday 7</a:t>
              </a:r>
              <a:r>
                <a:rPr b="1" lang="en-US" sz="1200" spc="-1" strike="noStrike" baseline="30000">
                  <a:solidFill>
                    <a:srgbClr val="000000"/>
                  </a:solidFill>
                  <a:latin typeface="Bangla MN"/>
                  <a:ea typeface="Bangla MN"/>
                </a:rPr>
                <a:t>th</a:t>
              </a:r>
              <a:r>
                <a:rPr b="1" lang="en-US" sz="1200" spc="-1" strike="noStrike">
                  <a:solidFill>
                    <a:srgbClr val="000000"/>
                  </a:solidFill>
                  <a:latin typeface="Bangla MN"/>
                  <a:ea typeface="Bangla MN"/>
                </a:rPr>
                <a:t> June:    </a:t>
              </a:r>
              <a:r>
                <a:rPr b="0" lang="en-US" sz="1200" spc="-1" strike="noStrike">
                  <a:solidFill>
                    <a:srgbClr val="000000"/>
                  </a:solidFill>
                  <a:latin typeface="Bangla MN"/>
                  <a:ea typeface="Bangla MN"/>
                </a:rPr>
                <a:t>10.00 – 12.30                 1.30 – 4.00</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 name="Rectangle 11"/>
            <p:cNvSpPr/>
            <p:nvPr/>
          </p:nvSpPr>
          <p:spPr>
            <a:xfrm>
              <a:off x="302256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22"/>
            <p:cNvSpPr/>
            <p:nvPr/>
          </p:nvSpPr>
          <p:spPr>
            <a:xfrm>
              <a:off x="303516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23"/>
            <p:cNvSpPr/>
            <p:nvPr/>
          </p:nvSpPr>
          <p:spPr>
            <a:xfrm>
              <a:off x="4559400" y="880632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angle 24"/>
            <p:cNvSpPr/>
            <p:nvPr/>
          </p:nvSpPr>
          <p:spPr>
            <a:xfrm>
              <a:off x="4546800" y="8329680"/>
              <a:ext cx="266400" cy="26676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54" name="Picture 4" descr="LSTlogo-purple.jpg"/>
          <p:cNvPicPr/>
          <p:nvPr/>
        </p:nvPicPr>
        <p:blipFill>
          <a:blip r:embed="rId1"/>
          <a:stretch/>
        </p:blipFill>
        <p:spPr>
          <a:xfrm>
            <a:off x="1689120" y="9360"/>
            <a:ext cx="3505320" cy="22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14:06:56Z</dcterms:created>
  <dc:creator>Alison Eley</dc:creator>
  <dc:description/>
  <dc:language>en-US</dc:language>
  <cp:lastModifiedBy>-</cp:lastModifiedBy>
  <cp:lastPrinted>2014-01-17T12:27:34Z</cp:lastPrinted>
  <dcterms:modified xsi:type="dcterms:W3CDTF">2014-07-04T15:13:21Z</dcterms:modified>
  <cp:revision>20</cp:revision>
  <dc:subject/>
  <dc:title>Science for the Family!</dc:title>
</cp:coreProperties>
</file>