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71D-9181-4D43-8FA5-BBCAA639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704-07EA-46D5-A5F2-84717BCA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3E5-E7A9-492B-9D43-B8107542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DA7-A9A0-4A48-BAA7-6CEE63F6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0E8-C826-48D9-B378-7266CD2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1E9-349A-49A2-BD06-43468085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2CF-77B1-4B04-A3FD-B443AAF3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394-F434-4D51-841F-95945E71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A6E-9ADA-4A7E-AF8F-8CC8F105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6AC-23D3-4AA1-92C9-13919D2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EB5-E641-451B-800C-6C4C254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DCF-78B2-40B2-AD31-865F330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05C0-3E2A-47DB-9996-85E37218CE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LSTlogo-blu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LSTlogo-dk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LSTlogo-green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LSTlogo-orang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STlogo-purple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LSTlogo-red.jpg"/>
          <p:cNvPicPr/>
          <p:nvPr/>
        </p:nvPicPr>
        <p:blipFill>
          <a:blip r:embed="rId1"/>
          <a:stretch/>
        </p:blipFill>
        <p:spPr>
          <a:xfrm>
            <a:off x="0" y="525600"/>
            <a:ext cx="9144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STlogo-yellow.jpg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0:32:55Z</dcterms:created>
  <dc:creator>-</dc:creator>
  <dc:description/>
  <dc:language>en-US</dc:language>
  <cp:lastModifiedBy>-</cp:lastModifiedBy>
  <dcterms:modified xsi:type="dcterms:W3CDTF">2014-11-03T10:35:37Z</dcterms:modified>
  <cp:revision>1</cp:revision>
  <dc:subject/>
  <dc:title>Slide 1</dc:title>
</cp:coreProperties>
</file>